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BC0-CC18-4946-94C0-11AF3459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D17-A689-47EE-9E95-1CD2FF0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E4C-03F3-4BCF-B3E9-5118A249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301-E382-4B01-8AFB-939D357E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9A75-D295-4C35-8386-CED3EFE6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D7F4-5E4D-45B4-88BA-C6DC67AE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C9E-CE09-48F7-BA9E-019F30A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F7E0-A267-43B6-B86B-4DA1870D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912-6D78-4104-893F-F0FAF81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63CF-0367-45ED-95CD-46956947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53D-79D2-4BF5-8930-E7E23B0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B4B-C8F8-40B6-A32C-0C962568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9D3-5C8A-4916-91CA-9EDC84F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9183-ED75-42E8-8B7E-54B242A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D951-1410-482C-988D-8CCE45F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F894-9B1F-4251-948D-182B59F8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BC8-0BA0-4E2F-9A6A-6C7A1B2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13B-EF7C-40FB-A739-B6A6FEE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360-81C8-4F91-911B-17C30C1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EE9-7910-46EB-A74B-D8CE7AB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151-AA92-4F3E-A21A-C96839A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F31-BA71-4900-812E-DDD32DD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153-8AAE-418D-8170-C3B1483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E11-1ACD-4FA5-BB65-835CE4A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DD1-8088-4A79-B4B1-86A7BB708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E63-46B7-4E56-B51E-D0B11E9B9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limerosterceiroi.blogspot.com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tângulo de cantos arredondados 8"/>
          <p:cNvGrpSpPr/>
          <p:nvPr/>
        </p:nvGrpSpPr>
        <p:grpSpPr>
          <a:xfrm>
            <a:off x="3529080" y="4595760"/>
            <a:ext cx="5370480" cy="2017800"/>
            <a:chOff x="3529080" y="4595760"/>
            <a:chExt cx="5370480" cy="2017800"/>
          </a:xfrm>
        </p:grpSpPr>
        <p:pic>
          <p:nvPicPr>
            <p:cNvPr id="147" name="Retângulo de cantos arredondados 8" descr=""/>
            <p:cNvPicPr/>
            <p:nvPr/>
          </p:nvPicPr>
          <p:blipFill>
            <a:blip r:embed="rId1"/>
            <a:stretch/>
          </p:blipFill>
          <p:spPr>
            <a:xfrm>
              <a:off x="3529080" y="4595760"/>
              <a:ext cx="53704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730680" y="4802040"/>
              <a:ext cx="496872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Retângulo de cantos arredondados 6"/>
          <p:cNvGrpSpPr/>
          <p:nvPr/>
        </p:nvGrpSpPr>
        <p:grpSpPr>
          <a:xfrm>
            <a:off x="1170000" y="2457360"/>
            <a:ext cx="6589800" cy="1657440"/>
            <a:chOff x="1170000" y="2457360"/>
            <a:chExt cx="6589800" cy="1657440"/>
          </a:xfrm>
        </p:grpSpPr>
        <p:pic>
          <p:nvPicPr>
            <p:cNvPr id="150" name="Retângulo de cantos arredondados 6" descr=""/>
            <p:cNvPicPr/>
            <p:nvPr/>
          </p:nvPicPr>
          <p:blipFill>
            <a:blip r:embed="rId2"/>
            <a:stretch/>
          </p:blipFill>
          <p:spPr>
            <a:xfrm>
              <a:off x="1170000" y="2457360"/>
              <a:ext cx="6589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355760" y="2641680"/>
              <a:ext cx="621828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1360" y="380880"/>
            <a:ext cx="8072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Verdana"/>
              </a:rPr>
              <a:t>Prótese Parcial Removível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Verdana"/>
              </a:rPr>
              <a:t>Provisória Flexível Unilateral ou Bilateral  Free-Me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1214280" y="2571840"/>
            <a:ext cx="6500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ótese Flexível Termoplá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ublicado na revista Focus nº.1 Editora D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dersen, Vanessa Malucelli e Fernandes, Robe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CaixaDeTexto 5"/>
          <p:cNvSpPr/>
          <p:nvPr/>
        </p:nvSpPr>
        <p:spPr>
          <a:xfrm>
            <a:off x="3786120" y="4672080"/>
            <a:ext cx="53578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t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Site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www.vanessamalucelli.odo.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E-mail 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vanessamalucelli@terra.com.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Fone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(41)3233-78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Celular: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 (41)9971-204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15"/>
          <p:cNvGraphicFramePr/>
          <p:nvPr/>
        </p:nvGraphicFramePr>
        <p:xfrm>
          <a:off x="1905120" y="838080"/>
          <a:ext cx="265104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8080"/>
                    <a:ext cx="26510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952880" y="838080"/>
          <a:ext cx="2590920" cy="17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838080"/>
                    <a:ext cx="25909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7"/>
          <p:cNvGraphicFramePr/>
          <p:nvPr/>
        </p:nvGraphicFramePr>
        <p:xfrm>
          <a:off x="2286000" y="3124080"/>
          <a:ext cx="2286000" cy="15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24080"/>
                    <a:ext cx="22860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8"/>
          <p:cNvGraphicFramePr/>
          <p:nvPr/>
        </p:nvGraphicFramePr>
        <p:xfrm>
          <a:off x="4952880" y="3124080"/>
          <a:ext cx="2210040" cy="147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124080"/>
                    <a:ext cx="22100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9"/>
          <p:cNvGraphicFramePr/>
          <p:nvPr/>
        </p:nvGraphicFramePr>
        <p:xfrm>
          <a:off x="2286000" y="5029200"/>
          <a:ext cx="2270160" cy="15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5029200"/>
                    <a:ext cx="227016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20"/>
          <p:cNvGraphicFramePr/>
          <p:nvPr/>
        </p:nvGraphicFramePr>
        <p:xfrm>
          <a:off x="4952880" y="5029200"/>
          <a:ext cx="221004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5029200"/>
                    <a:ext cx="221004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10"/>
          <p:cNvGraphicFramePr/>
          <p:nvPr/>
        </p:nvGraphicFramePr>
        <p:xfrm>
          <a:off x="2971800" y="304920"/>
          <a:ext cx="464832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46483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1"/>
          <p:cNvGraphicFramePr/>
          <p:nvPr/>
        </p:nvGraphicFramePr>
        <p:xfrm>
          <a:off x="2971800" y="3581280"/>
          <a:ext cx="4648320" cy="30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46483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Casos Clínicos - 200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5" name="Object 16"/>
          <p:cNvGraphicFramePr/>
          <p:nvPr/>
        </p:nvGraphicFramePr>
        <p:xfrm>
          <a:off x="2666880" y="1295280"/>
          <a:ext cx="23623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95280"/>
                    <a:ext cx="23623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7"/>
          <p:cNvGraphicFramePr/>
          <p:nvPr/>
        </p:nvGraphicFramePr>
        <p:xfrm>
          <a:off x="5410080" y="1295280"/>
          <a:ext cx="2286000" cy="15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295280"/>
                    <a:ext cx="22860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8"/>
          <p:cNvGraphicFramePr/>
          <p:nvPr/>
        </p:nvGraphicFramePr>
        <p:xfrm>
          <a:off x="2666880" y="3124080"/>
          <a:ext cx="234648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124080"/>
                    <a:ext cx="234648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9"/>
          <p:cNvGraphicFramePr/>
          <p:nvPr/>
        </p:nvGraphicFramePr>
        <p:xfrm>
          <a:off x="5410080" y="3124080"/>
          <a:ext cx="2286000" cy="15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124080"/>
                    <a:ext cx="22860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0"/>
          <p:cNvGraphicFramePr/>
          <p:nvPr/>
        </p:nvGraphicFramePr>
        <p:xfrm>
          <a:off x="2666880" y="4952880"/>
          <a:ext cx="2346480" cy="157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952880"/>
                    <a:ext cx="234648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21"/>
          <p:cNvGraphicFramePr/>
          <p:nvPr/>
        </p:nvGraphicFramePr>
        <p:xfrm>
          <a:off x="5410080" y="4952880"/>
          <a:ext cx="228600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4952880"/>
                    <a:ext cx="22860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15520" y="25992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so</a:t>
            </a: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línico</a:t>
            </a: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8" name="Rectangle 3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672000" cy="245268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35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673800" cy="245268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35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673800" cy="233208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35" descr=""/>
          <p:cNvPicPr/>
          <p:nvPr/>
        </p:nvPicPr>
        <p:blipFill>
          <a:blip r:embed="rId4"/>
          <a:stretch/>
        </p:blipFill>
        <p:spPr>
          <a:xfrm>
            <a:off x="1258920" y="4005360"/>
            <a:ext cx="367200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Casos Clínic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3" name="Object 21"/>
          <p:cNvGraphicFramePr/>
          <p:nvPr/>
        </p:nvGraphicFramePr>
        <p:xfrm>
          <a:off x="2514600" y="1469880"/>
          <a:ext cx="211788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469880"/>
                    <a:ext cx="21178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22"/>
          <p:cNvGraphicFramePr/>
          <p:nvPr/>
        </p:nvGraphicFramePr>
        <p:xfrm>
          <a:off x="5181480" y="1459080"/>
          <a:ext cx="2133720" cy="14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459080"/>
                    <a:ext cx="21337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23"/>
          <p:cNvGraphicFramePr/>
          <p:nvPr/>
        </p:nvGraphicFramePr>
        <p:xfrm>
          <a:off x="2514600" y="3200400"/>
          <a:ext cx="2117880" cy="14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200400"/>
                    <a:ext cx="21178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4"/>
          <p:cNvGraphicFramePr/>
          <p:nvPr/>
        </p:nvGraphicFramePr>
        <p:xfrm>
          <a:off x="5181480" y="3200400"/>
          <a:ext cx="2133720" cy="14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200400"/>
                    <a:ext cx="2133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5"/>
          <p:cNvGraphicFramePr/>
          <p:nvPr/>
        </p:nvGraphicFramePr>
        <p:xfrm>
          <a:off x="2514600" y="4952880"/>
          <a:ext cx="2133720" cy="142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952880"/>
                    <a:ext cx="213372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6"/>
          <p:cNvGraphicFramePr/>
          <p:nvPr/>
        </p:nvGraphicFramePr>
        <p:xfrm>
          <a:off x="5181480" y="4952880"/>
          <a:ext cx="21337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4952880"/>
                    <a:ext cx="21337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Casos Clínic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6" name="Object 11"/>
          <p:cNvGraphicFramePr/>
          <p:nvPr/>
        </p:nvGraphicFramePr>
        <p:xfrm>
          <a:off x="3581280" y="1611360"/>
          <a:ext cx="25909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611360"/>
                    <a:ext cx="25909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2"/>
          <p:cNvGraphicFramePr/>
          <p:nvPr/>
        </p:nvGraphicFramePr>
        <p:xfrm>
          <a:off x="3581280" y="3733920"/>
          <a:ext cx="2590920" cy="17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733920"/>
                    <a:ext cx="259092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POLÍMER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71280" y="184464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POLIAMIDA TERMOPLÁSTICA SEMI-CRISTALINA MODIFICA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ff"/>
                </a:solidFill>
                <a:latin typeface="Times New Roman"/>
              </a:rPr>
              <a:t>(APROVAÇÃO FDA-FOOD AND DRUG ADMINISTR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ff"/>
                </a:solidFill>
                <a:latin typeface="Times New Roman"/>
              </a:rPr>
              <a:t>SEMENTE DE MAMO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ff"/>
                </a:solidFill>
                <a:latin typeface="Times New Roman"/>
              </a:rPr>
              <a:t>CELULOSE (ALGODÃ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ff"/>
                </a:solidFill>
                <a:latin typeface="Times New Roman"/>
              </a:rPr>
              <a:t>FURFURAL (CASCA DE AVEI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AZEITES (SEMENT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DERIVADOS DE GO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CARV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ffff"/>
                </a:solidFill>
                <a:latin typeface="Times New Roman"/>
              </a:rPr>
              <a:t>CONTÉM: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ANTIOXIDANTES QUE O PROTEGEM DA DEGRADAÇÃO QUÍMICA CAUSADA PELO OXIGÊN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ESTABILIZADORES ULTRAVIOLETAS QUE PROTEGEM O MATERIAL FINDO DA UM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-PLASTIFICANTES QUE LHE DÃO ESTABILID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-LUBRIFICANTES QUE REDUZEM A FRIC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-PIGMENTOS QUE LHE DÃO COLOR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-SUBSTANCIAS IGNÍFUGAS E ANTIESTÁTICAS COMO AD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-FIBRAS DE VIDRO COMO MATERIAL DE REFORÇO PARA DAR RESISTÊNCIA E EST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12"/>
          <p:cNvGraphicFramePr/>
          <p:nvPr/>
        </p:nvGraphicFramePr>
        <p:xfrm>
          <a:off x="5181480" y="1676520"/>
          <a:ext cx="281952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76520"/>
                    <a:ext cx="28195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3"/>
          <p:cNvGraphicFramePr/>
          <p:nvPr/>
        </p:nvGraphicFramePr>
        <p:xfrm>
          <a:off x="1752480" y="1701720"/>
          <a:ext cx="281952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701720"/>
                    <a:ext cx="28195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4"/>
          <p:cNvGraphicFramePr/>
          <p:nvPr/>
        </p:nvGraphicFramePr>
        <p:xfrm>
          <a:off x="1752480" y="4191120"/>
          <a:ext cx="2819520" cy="18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91120"/>
                    <a:ext cx="28195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5"/>
          <p:cNvGraphicFramePr/>
          <p:nvPr/>
        </p:nvGraphicFramePr>
        <p:xfrm>
          <a:off x="5181480" y="4191120"/>
          <a:ext cx="2819520" cy="188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191120"/>
                    <a:ext cx="28195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PRODUT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VALPLAST (NO MERCADO AMERICANO E EUROPEU DESDE 1956)TAIWAN, CORÉIA, AUSTRÁLIA, CHINA, JAPÃO, FILIPINAS, CANADÁ, ISRAEL, NOVA ZELANDIA, SINGAPURA, MALÁSIA, BRAS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FS(CONFORT FLEXIBLE SI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DONTOFLEX (SEMI-FLEXÍV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FL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ORRIF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RF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HERMOFLEX – DENTSPL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11808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LEXSIV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(www.flexsiv.c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ORRIF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BRF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HERMOFLEX – DENTS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OCALFLEX - 3 ANOS NO MERCADO INJETA 3 MUFLOS POR TUBO DE RESINA AGRANEL E OUTROS 1 MUFLO A CADA 20 MINU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LEXITE (DESDE 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RANSF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RF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ILSAN (FRANÇ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2966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43344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UPO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VITAFLEX – NYLON ACETAL POLÍMERO TERMOPLÁ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LEXDENT (ARGENTIN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)(fexdent@flexdent.c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LEXLINE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(www.flexline.odo.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PFLEX (POLIPROPILENO CIRÚRGIC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DE 1843 OS MONÔMEROS DE ACRÍLICO PASSARAM A SER CONHECIDOS E APL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RÉM SOMENTE EM 1901 SUA EXPANSÃO COMEÇOU A OCORRER, ESTUDOS REALIZADOS NA ALEMANHA POR DOUTOR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OTTO KHRN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PRODUÇÃO INDUSTRIAL TEM SEUS PRIMEIROS PASSOS EM 192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M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HN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HAA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ENVOLVENDO O PIMEIRO POLÍMERO EM SOLVENTE ORGÃNICO QUE FOI USADO PRINCIPALMENTE EM LACAS E FORMULAÇÕES PARA REVESTIMENTOS EM SUPERFÍ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118080"/>
            <a:ext cx="5483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APRESENTA MONÔMERO RESI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ARACTERÍSTICAS EXCEPICIONAIS QUE INCLUEM O PRODUTO QUÍMICO LEVADO COM RESISTÊNCIA A FRATURAS E TRANSPARÊNCIA EXCE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NSIDADE BAIX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ORÇA DE DOBRA FLEXURAL BO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LTA TEMPERATURA PARA DISTORÇÃO AO C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LÍMERO GRANUL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OPRIEDADES FÍSICO-QUÍMICAS EXCE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LÍMERO NOBRE COM POSSIBILADADES ILIMI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AIXA ABSSORÇÃO DE UM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DEAL PARA QUE NÃO ACONTEÇA MODIFICAÇÃO AMBI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LÍMEROS SÃO MATERIAIS INORGÂNICOS OU ORGÂNICOS, DE AUTO PESO MOLEC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SUA ESTRUTURA MOLECULAR CONSISTE NA REPETIÇÃO DE PEQUENAS UNIDADES CHAMADAS MONÔMEROS, SENDO QUE A UNIÃO DE VÁRIOS MONÔMEROS DÁ ORIGEM A UM POLÍM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VIDO A SEU TAMANHO AVANTAJADO A MOLÉCULA DE UM POLÍMERO É CHAMADA DE MACROMOLÉC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REAÇÃO QUE PRODUZ O POLÍMERO É DENOMINADA DE REAÇÃO DE POLIMERIZAÇÃO (</a:t>
            </a:r>
            <a:r>
              <a:rPr b="0" lang="pt-BR" sz="32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www.polimerosterceiroi.blogspot.com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ff"/>
                </a:solidFill>
                <a:latin typeface="Times New Roman"/>
              </a:rPr>
              <a:t>DICAS LABORATORIA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ONTAGEM DE 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NCER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POIOS OCLUS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UROS DE RETENÇÃO NOS DENTES – MESIAL E DISTAL E EM DENTES ISOLADOS POR PALATINO TAMB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OLIMENTO – BRANCO ESPANHA,  PEDRA POMES E ESCOVA DE PELO Nº. 29 (CUIDADO PARA NÃO QUEIMAR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11808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ORMATO DO GRAM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TENÇÃO BEM NO COLO SEM COBRIR O D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ÃO ESTENDER MUITO AO FUNDO DE VESTÍBULO O ACABAMENTO DA C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PEÇA DEVE ESTAR BEM FIXA AO MODELO DE GESSO (SAIR COM DIFICULDADE DO GE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IO DE ORTO PARA REFORÇO SUPER BONDER PARA PEQUENOS CONCE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11808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LIXA PARA ACABAMENTO 180 DE MADEIRA NO INÍCIO E ÚTILMA LIXA 400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INAL – APÓS POLIMENTO  NUJOL/VASILINA LÍQUIDA PARA NÃO RESSE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NJEÇÃO 180° – 200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RESA CARBIDE PARA PRIMEIRA REMOÇÃO E ACAB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STA UNIVERSAL PARA POLIMENTO DE METAL E CARÂMICA NÃO É B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HOQUE TÉRMICO PARA AJUSTE SOMENTE NOS gram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Histórico do Trabal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 acrílico de rápida polimerização e não indicação do trabalho a porcelana se tornou o dia a dia na Odont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téria prima alemã - dificuldade técnica, equipamentos especiais, tornou-se artesanal e fora do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aciente tem relato satisfatório - devolve as funções, estética e mastigação, conforto e satisfação, e paciente finaliza seu problema imedi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11808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PD Nº.3 50 ANOS EM PRÓTESES JÁ TINHA MÁQUINA ANO FABRICAÇÃO 1958 COMPRADA DE UM BAIANO PRODUTO UTILIZADO NA ÉPOCA SUPOLIDE (ALEMANH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PD COM ESTA EXPERIÊNCIA CONFECCIONA 10 PEÇAS/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PD INICIANDO 2 A 3 PEÇAS/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5400" y="333000"/>
            <a:ext cx="822636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STUDOS FEITOS EM 10 ANOS COM 748 UTILIZADORES DE PRÓTESES PARCIAIS REMOVÍVEIS, CONVENCIONAIS A PORCENTAGEM DE FRACASSOS FOI D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5% EM 5 AN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 505 EM 10 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INCIPAIS PROBLE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RATURAS DE GRAMPOS METÁL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FRATURA DO ACRÍLICO CONVEN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SPOSTA ALÉRGICA À QUÍMICA DO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GRAMPOS ANTI-ESTÉ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NOVOS PARADIGMAS NA ODONTOLOGI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625400"/>
            <a:ext cx="828036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M SURGIMENTO DE NOVOS MATERIAIS TEMOS DE ACOMPANHAR A EVOLUÇÃO QUE DESDE O SÉCULO PASSADO, OS PLÁSTICOS DE ENGENHARIA VEM SUBSTITUINDO MUITOS ITENS COMO FERRO, NÍQUEL-CROMO, CROMO-CABALTO E VÁRIOS OUTROS METAIS EM ÁREAS AUTOMOBILÍSTICAS, BRINQUEDOS, AEROESPACIAIS, CIRÚRGICO-ORTOPÉDICOS, TORNANDO PO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263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JETOS DEVIDO À SUA ALTA QUALIDADE, BAIXO CUSTO, PESO E RESISTÊNCIA COM RELAÇÃO A OUTROS MATERIAIS TENDO PROPRIEDADES FÍSICO-QUÍMICAS EXCELENTES TANTO EM BAIXAS COMO EM ALTAS TEMPERATURAS, DURANTE O PROCESSO DE CONFECÇÃO LABORATORIAL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AMBÉM DENTRO DA ODONTOLOGIA OBSERVAMOS UMA GRANDE EVOLUÇÃO DOS MATERIAIS E PROCEDIMENTOS CLÍNICOS, PASSANDO PELAS PORCELAN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MPLANTES, RESINAS FOTOPOLIMERISÁVEIS, PROCEDIMENTOS CIRÚRGICOS, ENXERTOS ÓSSE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ffff"/>
                </a:solidFill>
                <a:latin typeface="Times New Roman"/>
              </a:rPr>
              <a:t>ESTUDOS COMPARATIVOS DAS TÉCNICAS CONVENCIONAIS E POR INJEÇÃO - TERMOPLÁSTIC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2857320"/>
            <a:ext cx="7772400" cy="32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 REVISÃO DE LITERATURAS AUTORES AFIRMAM QUE O SISTEMA DE INJEÇÃO EVITA CRISTALIZAÇÃO DA RESINA PRODUZINDO UMA PRÓTESE MAIS PRECISA,MAIS LEVE O QUE DEMANDA MENOS TEMPO PARA AJUSTES PROTÈT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 ESTA RAZÃO CONCLUÍRAM QUE ESTA TÉCNICA É MAIS VANTAJ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* REVISÃO DE LITERATURA REVISTA DENTAL LAB EDITORA D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CKSON ET AL. (198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TROHAVER (198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YKORA, SUTOW 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ALIM ET AL. (199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GUEIRA ET AL. (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RAOKA, TAKAHASHI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SWORDS ET AL.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HAUGET AL.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MEMON ET AL. (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UZUN, HERSEK (200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KEENAN ET AL. (20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ONO ET AL. (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9" name="Tec Lab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57520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1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asos Clinico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63560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487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ff"/>
                </a:solidFill>
                <a:latin typeface="Times New Roman"/>
              </a:rPr>
              <a:t>NOVAS IDÉIAS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91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abendo que as próteses parciais confeccionadas no mercado odontológico tinham grampos de metais visíveis e ante estéticos, e que os mesmos deterioravam esmalte e os rebordos alveolares, diante disto o Sr. Tibor e Arpad Nagy começaram a estudar determinadamente cada um dos fatores que contribuem com a deterioração dental, a falta de estética, reações alérgicas, etc. Conhecendo as limitações providas pelos próprios materiais, começaram a estudar propriedades físicas e químicas de diversos tipos de materiais e decidiram usar material termoplástico para substituir o metal por completo, criaram assim um material bio compatível à base de plástico com alta memória molecular e a chamaram de VALPLA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ângulo de cantos arredondados 8"/>
          <p:cNvGrpSpPr/>
          <p:nvPr/>
        </p:nvGrpSpPr>
        <p:grpSpPr>
          <a:xfrm>
            <a:off x="3529080" y="4595760"/>
            <a:ext cx="5370480" cy="2017800"/>
            <a:chOff x="3529080" y="4595760"/>
            <a:chExt cx="5370480" cy="2017800"/>
          </a:xfrm>
        </p:grpSpPr>
        <p:pic>
          <p:nvPicPr>
            <p:cNvPr id="273" name="Retângulo de cantos arredondados 8" descr=""/>
            <p:cNvPicPr/>
            <p:nvPr/>
          </p:nvPicPr>
          <p:blipFill>
            <a:blip r:embed="rId1"/>
            <a:stretch/>
          </p:blipFill>
          <p:spPr>
            <a:xfrm>
              <a:off x="3529080" y="4595760"/>
              <a:ext cx="53704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730680" y="4802040"/>
              <a:ext cx="496872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Retângulo de cantos arredondados 6"/>
          <p:cNvGrpSpPr/>
          <p:nvPr/>
        </p:nvGrpSpPr>
        <p:grpSpPr>
          <a:xfrm>
            <a:off x="1170000" y="2457360"/>
            <a:ext cx="6589800" cy="1657440"/>
            <a:chOff x="1170000" y="2457360"/>
            <a:chExt cx="6589800" cy="1657440"/>
          </a:xfrm>
        </p:grpSpPr>
        <p:pic>
          <p:nvPicPr>
            <p:cNvPr id="276" name="Retângulo de cantos arredondados 6" descr=""/>
            <p:cNvPicPr/>
            <p:nvPr/>
          </p:nvPicPr>
          <p:blipFill>
            <a:blip r:embed="rId2"/>
            <a:stretch/>
          </p:blipFill>
          <p:spPr>
            <a:xfrm>
              <a:off x="1170000" y="2457360"/>
              <a:ext cx="6589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355760" y="2641680"/>
              <a:ext cx="621828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1360" y="380880"/>
            <a:ext cx="8072280" cy="19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Verdana"/>
              </a:rPr>
              <a:t>Prótese Parcial Removível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Verdana"/>
              </a:rPr>
              <a:t>Provisória Flexível Unilateral ou Bilateral  Free-Me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CaixaDeTexto 4"/>
          <p:cNvSpPr/>
          <p:nvPr/>
        </p:nvSpPr>
        <p:spPr>
          <a:xfrm>
            <a:off x="1214280" y="2571840"/>
            <a:ext cx="6500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ótese Flexível Termoplá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ublicado na revista Focus nº.1 Editora D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dersen, Vanessa Malucelli e Fernandes, Robe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CaixaDeTexto 5"/>
          <p:cNvSpPr/>
          <p:nvPr/>
        </p:nvSpPr>
        <p:spPr>
          <a:xfrm>
            <a:off x="3786120" y="4672080"/>
            <a:ext cx="53578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t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Site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www.vanessamalucelli.odo.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E-mail 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vanessamalucelli@terra.com.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Fone: 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(41)3233-78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Celular:</a:t>
            </a:r>
            <a:r>
              <a:rPr b="1" lang="pt-BR" sz="2200" spc="-1" strike="noStrike">
                <a:solidFill>
                  <a:srgbClr val="ffc000"/>
                </a:solidFill>
                <a:latin typeface="Times New Roman"/>
              </a:rPr>
              <a:t> (41)9971-204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Definição - Fundament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Indica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altas parciais de dent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é-implant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geriatri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speciais com dificuldade motor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aixa rend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não indicação de implant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oblemas estéticos dos grampos metál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nutenção de espaços pós ortodon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Casu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21 anos de trabalho realizado sem perdas significa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Apresentação Cient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VI CIOPAR agosto 2001(primeira apresentação ofic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Características da Próte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ntomucosuportá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poio oclusal é um cuidado importante na confecção da pe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ótese removível sem comprometimentos de desgaste ou preparo em dentes de apo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stética bem favoravel sem o me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eriodonto (mi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Verdana"/>
              </a:rPr>
              <a:t>Na Alemanha, de onde originou a PPR convencional sobre dentes com coroas não vitais adaptada a técnica no Brasil acarreta problemas de desgaste acentuado em esmalte, causando perda de tecido dentário (metal sobre den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dontologia preventiva sem desgas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ecessário moldagem para confecção superior e inferior e oclusão em cera 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empo que o paciente pode usar a peça: INDEFIN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Considerações Clínicas</a:t>
            </a:r>
            <a:br>
              <a:rPr sz="4400"/>
            </a:br>
            <a:r>
              <a:rPr b="0" lang="pt-BR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00"/>
                </a:solidFill>
                <a:latin typeface="Verdana"/>
              </a:rPr>
              <a:t>Princípios Básicos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sgaste com broca dourada finalizando acabamento com lec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ncilon orabase uso 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juste oclusal ou em tuberosidades osseas se o paciente retornar com algum desconfo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m pesquisas de câncer bucal, sendo 68% em homens, 57% deles fumantes e ou alcoólatras, e 3% por próteses mal ajus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 o paciente assim o desejar com a programação do diagonóstico realiza-se implante ou futura prótese fixa ou adesiva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VANTAGENS DAS PPRs FLEX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CELENTE MEMÓRIA PLÁSTIC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ORTÁVEL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QUEBRAVEL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IPOALÉRGICO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URÁVEL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OA APARENCI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ER LE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00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ÓXIC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ÉTIC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ORÇÃO MINIMA DE AGU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MPE FORÇA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LÚCIDO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EXIBILIDADE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DETERIORA COM FLUIDOS E BACTÉ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SOLUÇÃO FUNCION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STRIBUIÇÃO DE FORÇAS NA AREA DESDENTADA . ELIMINA PRESSÃO NOS DENTES REMANECENTES . ESTIMULAÇAO DOS REBORDOS, PELA BOA ADAPTAÇÃO E FLEXIBILIDADE.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JUDA A REDUZIR A ABSORÇÃO DO REBOR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MINUE A ENTRADA DE ALIMENT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59:25Z</dcterms:created>
  <dc:creator>PSB</dc:creator>
  <dc:description/>
  <dc:language>en-US</dc:language>
  <cp:lastModifiedBy>Cliente</cp:lastModifiedBy>
  <dcterms:modified xsi:type="dcterms:W3CDTF">2009-08-11T17:31:24Z</dcterms:modified>
  <cp:revision>20</cp:revision>
  <dc:subject/>
  <dc:title>Prótese Parcial Removível  Provisória Flexível Unilateral ou Bilateral  Free-Metal</dc:title>
</cp:coreProperties>
</file>